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F07-0E66-49A7-89BD-F9C02444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2CB-6448-47E2-96AE-E35F8A2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562-8385-4840-9E09-E1B1E86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F3E-FA8A-423C-AEFF-20771673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B9F-CFEB-4F13-AF51-6951915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6E3-6963-4A67-98C2-1B9DB3B1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CED-D3B6-414B-A1BF-919D8FDF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67C-A61A-4003-97EA-39D1200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5D2-F086-4DF8-876A-386D0400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703-F28A-4172-83E4-9BC27D3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24D-E429-4FE0-8068-2106E54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6A1-CDA3-40D6-B898-50A73E6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2C3-A053-40AE-AACD-F7425E97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18"/>
                </a:solidFill>
                <a:latin typeface="Times New Roman"/>
              </a:rPr>
              <a:t>EXERCI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360" y="2895480"/>
            <a:ext cx="520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P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1320" y="1889280"/>
            <a:ext cx="54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t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419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5181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2578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56386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64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6933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594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7086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0840" y="2438280"/>
            <a:ext cx="483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Exercise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For 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41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6324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5840" y="25290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POP  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7010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38088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Pooling Exchangeable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7200" y="2568600"/>
            <a:ext cx="869544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.         How many concordant pairs are there where both pair members are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.         How many concordant pairs are there where both members are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3.         How many discordant pairs are there where the case is exposed and the control is un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.         How many discordant pairs are there where case is unexposed and the control is expos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is table is called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McNemar's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or these data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with this tabl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pooled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is the estimated mOR from these data (use the formula for the mOR in the box below)? «2.5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at type of matched analysis is being used here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.       Which type of analysis should be preferred for these matched data (where smoking status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only matched variable), pooled or unpooled?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pooled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1.       W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2. X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1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3. Y =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0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  14. Z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»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5.       mOR (un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undefined».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6.       mOR (pooled) =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2.5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Which of the following helps explain why the pooled mOR estimate should be preferr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he unpooled m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. The pooled mOR's are equal whereas the unpooled mOR'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.The unpooled mOR's assume that exchangeable matched pairs are not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.The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pooled mOR's assume that exchangeable matched pairs are unique.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«a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380880"/>
            <a:ext cx="62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swers to Exercises on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Logistic Regression for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200400"/>
            <a:ext cx="7696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ich of the logistic models shown below is appropriate for analyzing these data?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«b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method of estimation should be used to fit the appropriate model for these data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Conditional ML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What is the adjusted odds ratio for the effect of SMK on cervical cancer outcome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(1.4361)»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Is number of lifetime sexual partners a significant predictor of cervical cancer outcome, controlling for the matching variables and the other non-matching variables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5.       Are the matching variables being controlled?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yes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A 95% CI for the (adjusted) effect of SMK is given by the ex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Geneva"/>
              </a:rPr>
              <a:t>«exp[1.4361 +- 1.96(.3167)]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5:04:41Z</dcterms:modified>
  <cp:revision>91</cp:revision>
  <dc:subject/>
  <dc:title>The Art in the State of the Art</dc:title>
</cp:coreProperties>
</file>